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518C-45CE-4BD0-B9EB-E122DF650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2FB5-28DE-4A6A-A9EA-0B05225C0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35CF1-BD0B-4B67-9045-AAFBDBB1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F1B18-1DF3-45E0-974C-08DBDE068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37D32-0C88-41FE-8CA9-61FCC1D08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37FEF-0BDA-4071-9F57-139079FA3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BF795-A322-47D3-8539-DD99AAE47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C9168-3F42-4C8C-997D-B7A3F5A99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68DC9-F6EA-4625-8DC5-5A3525CCA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DF311-D5BD-4794-AC77-5A7C2CB1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F7FA9-F44E-4C9B-B308-17D9D3C14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DBC1-DE0E-4E56-AE69-FDFA0272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96C2-18C1-4C21-9926-5CB462C43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80FAB-31B8-4E9E-9EC0-6800623A2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C3AC4-E197-4DBC-B898-BB5869F83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6517C-49EE-49D7-98F9-18832500A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E77E1-4549-4120-8666-17287D49F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2B13CF-093B-49A7-B027-4695A412FD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1EDB6C-824A-413C-9298-E38323AFF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75BD68-9782-4013-95B9-80DF2CC4A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7391AB-0F88-43B0-AAE8-3F6E81AFD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8865C4-F4E2-4B94-851B-109DA278C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DF72A-55C3-49C9-A95D-6777B371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E1F933-BB36-4CF7-AD6E-80ACB7E21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4416D3-A1B5-4372-B412-E02D8CE47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546718-898D-4F31-A8EF-07BDC1846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3A1D0F-043B-4184-883E-7AEDA81C8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D0106B-06FF-42C8-A82E-EA10A711B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4CC189-E870-4F97-95B3-FDA27EF0E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DAF096C-910B-453A-9271-0B1E9CE4EE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E55CB-FEA7-4ECE-BE2D-5D074AE34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77EA4-F011-4962-A32A-31AE0BB76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438F4-2395-40D3-962D-99BB1DAE3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7D74-CC06-43A5-B2F5-AD8360A2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E86CC-0BAC-42E3-BA30-A2519233B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5D05E-9859-4E26-862C-050EEB447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64191-A48E-42C1-A4A0-CB42D440D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82F5B-DF22-4FFF-A2FA-F6195D984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2C130-219B-48A9-9318-C80B31858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55B7A-F6D2-445C-A241-16826CE2A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4F3CA-7A00-4063-9504-BFB608ECF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6EDF4-EDBF-4723-BF70-B669295793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2DC70-FCA2-4968-B8E1-831FB626A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BF6BAF-5318-4BBA-8A1D-CE3F0B2B4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6236-1B5D-4493-81C4-19E459DB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C19542-D12C-4256-AF91-C34D75FC2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992002-D16F-4E64-8FD4-BAA04B178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624BC7-7E15-45BB-B159-57D62A5CB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62A504-E5BB-43AD-A474-E9DF380CA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CF3964-46A0-41D7-872F-837D2F3DB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2416C8-90B6-4747-AC02-7E29EC608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F5DCC9-4EC7-4269-A839-C36169E74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66DF15-6C09-421A-94BE-13E0512F5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CED302-81C6-4A91-BE05-65123C651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764A68-D958-4386-9422-0781B58F69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05ED7-1C23-4508-8FC2-DBBB8F9D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D347AF9-5D6E-479C-872F-19E792E9AE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391F188-420D-4022-997A-F135932B9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6DA9F4-9081-494D-B28C-43D5956D8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C54299-349B-4EBF-A916-2119138939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AA0DD2-750D-4A9A-98AC-CBDF7DDB9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E74B22-3697-4F38-AB14-D1972646E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3AD37F-E533-40F0-9FFA-9A7C88C8D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690431-C8AF-4DAB-A68A-71D17370C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B7C7C8-2A53-4100-8989-3ECCF5913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CCCD43-67B3-4036-9DAD-9C45793F7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AB297-7CA4-41A7-875C-871AF1D4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74914D-135A-49D5-94EB-5406E557A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4FA1241-EA2F-425A-85E4-F7E1CC33FF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FA6DBDF-5E62-4C5E-AFB3-F73C202E2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08FD34-8C75-4ACA-B6F2-B9F663CAD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284DA5-F254-471C-A3D2-843584225C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8137E0-FA1C-421A-9249-C61823B6D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2EDC95-43BA-4A39-949E-8C72F5F684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FF4E008-1343-4101-B207-2AC5FCB0D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4F833D-45F5-49E0-934F-B0AC18537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64882D-C668-4723-81B4-476296919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B745-4ACB-43D2-A8EB-CD5C3B514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DBC807-6899-4B55-A5F2-6471E512E4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87FF8B-CFAE-4567-8854-A8F75E8ED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020E6A-D873-4911-9CFD-C708474DD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4C9E7F6-FC89-4FCD-AE18-47FFF3AD07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B842ED-83FA-4924-A77A-F22A10992F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5F46-4CA4-46B1-BAA5-79999BEA0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80A7-38AD-4EE2-8476-136B4D78C9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C9B6-E4EB-485B-AFA6-19B1B98AB1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3A04-EA8B-4255-9086-5E69C920BA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8392-937F-4824-9FA9-BB10372218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6E26-325A-4710-A17C-CA53DB1832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76BB-7640-4C60-B600-4C1E828BBE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B3D6-5101-4770-B108-4598E3B548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Mascariñas, MJ</cp:lastModifiedBy>
  <dcterms:modified xsi:type="dcterms:W3CDTF">2012-07-05T10:28:31Z</dcterms:modified>
  <cp:revision>4</cp:revision>
  <dc:subject/>
  <dc:title>Slide 1</dc:title>
</cp:coreProperties>
</file>